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BADURIM_5F2_5F86BPM.WAV" ContentType="audio/x-wav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9FC-3448-4AA2-8A6B-23A3AC0E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7E8-1054-4DB6-BEE7-14006C89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5E4-F17A-4DF8-8F58-393E9E56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767-5B0C-415A-B4BD-FFA86AC2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DBBD-A79D-4098-820A-15653E8B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3148-1883-4D12-8284-2D19B958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1DD4-4769-424A-9148-AA10777C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E4BC-7AA4-4733-B645-7076A4CE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0224-E19F-42C7-8E1A-84320BC3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65F5-8F41-4B69-9D50-4376E4B5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03EB-0B34-4675-8F0F-15382646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C92-D863-4515-BE21-58178C63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DFB2-5897-4B7C-AF05-BD9C1EEE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7704-A62A-45A9-B4B7-8C565B09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C741-4C1C-49E2-BB64-284132B8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69C8-2054-4547-9332-B5AA24E4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70B5-F6F0-4FE4-B034-32736A9A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1B1-663D-41F0-BBBD-2F9B805C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3A1-F800-4CEF-953F-C41CBCEF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862-B86A-4302-8010-02277963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729-50E0-4118-82F1-A4D3B273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789-C85D-4BFB-AFA2-E0712D32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B8B-0946-4B29-9C6B-5A125381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A92-C39B-40EC-A162-2521349B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cc66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c56d7"/>
                </a:gs>
                <a:gs pos="50000">
                  <a:srgbClr val="cc66ff"/>
                </a:gs>
                <a:gs pos="100000">
                  <a:srgbClr val="ac56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D2BD-773E-426C-A971-20ECCD437C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cc66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c56d7"/>
                </a:gs>
                <a:gs pos="50000">
                  <a:srgbClr val="cc66ff"/>
                </a:gs>
                <a:gs pos="100000">
                  <a:srgbClr val="ac56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FCFF-EBB4-4A66-AD3B-24EF7E66B2F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ADURIM_5F2_5F86BPM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audio" Target="../media/BADURIM_5F2_5F86BPM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audio" Target="../media/BADURIM_5F2_5F86BPM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audio" Target="../media/BADURIM_5F2_5F86BPM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audio" Target="../media/BADURIM_5F2_5F86BPM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BADURIM_5F2_5F86BPM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BADURIM_5F2_5F86BPM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audio" Target="../media/BADURIM_5F2_5F86BPM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BADURIM_5F2_5F86BPM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audio" Target="../media/BADURIM_5F2_5F86BPM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audio" Target="../media/BADURIM_5F2_5F86BPM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audio" Target="../media/BADURIM_5F2_5F86BPM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audio" Target="../media/BADURIM_5F2_5F86BPM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cc66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6764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24360" y="0"/>
            <a:ext cx="5219640" cy="6858000"/>
          </a:xfrm>
          <a:prstGeom prst="rect">
            <a:avLst/>
          </a:prstGeom>
          <a:solidFill>
            <a:srgbClr val="cc66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1640" y="1773000"/>
            <a:ext cx="29718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e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0600" spc="-1" strike="noStrike">
                <a:solidFill>
                  <a:srgbClr val="cc00ff"/>
                </a:solidFill>
                <a:latin typeface="Angsana New"/>
                <a:cs typeface="KodchiangUPC"/>
              </a:rPr>
              <a:t>บทที่ </a:t>
            </a:r>
            <a:r>
              <a:rPr b="1" i="1" lang="en-US" sz="10600" spc="-1" strike="noStrike">
                <a:solidFill>
                  <a:srgbClr val="cc00ff"/>
                </a:solidFill>
                <a:latin typeface="Angsana New"/>
                <a:ea typeface="KodchiangUPC"/>
              </a:rPr>
              <a:t>2</a:t>
            </a:r>
            <a:endParaRPr b="0" lang="en-US" sz="10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556000" y="4076280"/>
            <a:ext cx="4859280" cy="180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e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5400" spc="-1" strike="noStrike">
                <a:solidFill>
                  <a:srgbClr val="ccccff"/>
                </a:solidFill>
                <a:latin typeface="Angsana New"/>
                <a:cs typeface="LilyUPC"/>
              </a:rPr>
              <a:t>ไฟฟ้ากระแสสลั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blinds dir="horz"/>
    <p:sndAc>
      <p:stSnd>
        <p:snd r:embed="rId2" name="BADURIM_5F2_5F86BP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cc66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6764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0" y="0"/>
            <a:ext cx="7812000" cy="6858000"/>
          </a:xfrm>
          <a:prstGeom prst="rect">
            <a:avLst/>
          </a:prstGeom>
          <a:solidFill>
            <a:srgbClr val="824f9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345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2e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ff99ff"/>
                </a:solidFill>
                <a:latin typeface="Angsana New"/>
                <a:cs typeface="LilyUPC"/>
              </a:rPr>
              <a:t>ค่าเฉลี่ยของคลื่นไซน์</a:t>
            </a:r>
            <a:endParaRPr b="0" lang="en-US" sz="48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648036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เป็นค่าเฉลี่ยที่พิจารณาเพียงด้านใดด้านหนึ่งของคลื่นไซน์  ทำการเฉลี่ยสัญญาณของพื้นที่ใต้รูปคลื่นให้ได้ระดับเฉลี่ยเท่ากันตลอ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43164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187280" y="4076640"/>
                <a:ext cx="5689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θ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θ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ไฟฟ้ากระแสสลับ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ค่าเฉลี่ยของคลื่นไซน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blinds dir="horz"/>
    <p:sndAc>
      <p:stSnd>
        <p:snd r:embed="rId3" name="BADURIM_5F2_5F86BPM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cc66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6764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0" y="0"/>
            <a:ext cx="7812000" cy="6858000"/>
          </a:xfrm>
          <a:prstGeom prst="rect">
            <a:avLst/>
          </a:prstGeom>
          <a:solidFill>
            <a:srgbClr val="824f9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250920" y="5157720"/>
            <a:ext cx="7386480" cy="72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2e"/>
            </a:outerShdw>
          </a:effectLst>
        </p:spPr>
        <p:txBody>
          <a:bodyPr lIns="90000" rIns="90000" tIns="46800" bIns="46800" anchor="t">
            <a:normAutofit fontScale="71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ff99ff"/>
                </a:solidFill>
                <a:latin typeface="Angsana New"/>
                <a:cs typeface="LilyUPC"/>
              </a:rPr>
              <a:t>รูปการแบ่งพื้นที่ใต้กราฟคลื่นไซน์ออกเป็นส่วน ๆ เท่า ๆ กั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2/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431640" cy="333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ไฟฟ้ากระแสสลับ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ค่าเฉลี่ยของคลื่นไซน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84360" y="1700280"/>
            <a:ext cx="0" cy="2519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68360" y="3933720"/>
            <a:ext cx="3673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6200000">
            <a:off x="2844000" y="1774080"/>
            <a:ext cx="1800000" cy="2519280"/>
          </a:xfrm>
          <a:custGeom>
            <a:avLst/>
            <a:gdLst>
              <a:gd name="textAreaLeft" fmla="*/ 0 w 1800000"/>
              <a:gd name="textAreaRight" fmla="*/ 1262520 w 1800000"/>
              <a:gd name="textAreaTop" fmla="*/ 609120 h 2519280"/>
              <a:gd name="textAreaBottom" fmla="*/ 19101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225"/>
                  <a:pt x="21600" y="10449"/>
                </a:cubicBezTo>
                <a:lnTo>
                  <a:pt x="21600" y="11151"/>
                </a:lnTo>
                <a:cubicBezTo>
                  <a:pt x="21600" y="16376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11280" y="2781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03640" y="278136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11280" y="213372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78720" y="119700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E(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1908000" y="1773360"/>
                <a:ext cx="382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908000" y="2492280"/>
                <a:ext cx="412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2160360" y="3860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08640" y="386064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180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52160" y="371628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ngsana New"/>
              </a:rPr>
              <a:t>ө</a:t>
            </a:r>
            <a:r>
              <a:rPr b="1" i="1" lang="en-US" sz="2400" spc="-1" strike="noStrike">
                <a:solidFill>
                  <a:srgbClr val="ffffff"/>
                </a:solidFill>
                <a:latin typeface="Angsana New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º</a:t>
            </a:r>
            <a:r>
              <a:rPr b="1" i="1" lang="en-US" sz="24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2556000" y="3933720"/>
                <a:ext cx="4316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2627280" y="3141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71640" y="2852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771640" y="2781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16360" y="256536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59280" y="242100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03640" y="2276640"/>
            <a:ext cx="0" cy="165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48000" y="220500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92360" y="21337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35280" y="21337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80000" y="21337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24360" y="21337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67280" y="220500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11640" y="2276640"/>
            <a:ext cx="0" cy="165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56000" y="234936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00720" y="2492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43280" y="2637000"/>
            <a:ext cx="0" cy="129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2924280"/>
            <a:ext cx="0" cy="100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32360" y="3284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blinds dir="horz"/>
    <p:sndAc>
      <p:stSnd>
        <p:snd r:embed="rId3" name="BADURIM_5F2_5F86BPM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cc66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6764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0"/>
            <a:ext cx="7812000" cy="6858000"/>
          </a:xfrm>
          <a:prstGeom prst="rect">
            <a:avLst/>
          </a:prstGeom>
          <a:solidFill>
            <a:srgbClr val="824f9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68403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2e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ff99ff"/>
                </a:solidFill>
                <a:latin typeface="Angsana New"/>
                <a:cs typeface="LilyUPC"/>
              </a:rPr>
              <a:t>ค่าอาร์เอ็มเอสของคลื่น ไซน์</a:t>
            </a:r>
            <a:endParaRPr b="0" lang="en-US" sz="48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6840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หาค่า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RMS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ของคลื่นไซน์สามารถหาได้ด้วยวิธีนำเอาค่าชั่วขณะของคลื่นไซน์ที่มุมใด ๆ มายกกำลังสอง และนำมาหาค่าเฉลี่ยความแรงของค่าชั่วขณะที่หา และทำการถอดรากที่สองของค่าเฉลี่ยคลื่นไซน์ยกกำลังสองนั้นอีกครั้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3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43164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80960" y="3716280"/>
                <a:ext cx="7029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inθ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inθ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inθ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inθ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2340000" y="5084640"/>
                <a:ext cx="2952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707 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ไฟฟ้ากระแสสลับ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ค่าอาร์เอ็มเอสของคลื่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blinds dir="horz"/>
    <p:sndAc>
      <p:stSnd>
        <p:snd r:embed="rId3" name="BADURIM_5F2_5F86BPM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cc66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6764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0" y="0"/>
            <a:ext cx="7812000" cy="6858000"/>
          </a:xfrm>
          <a:prstGeom prst="rect">
            <a:avLst/>
          </a:prstGeom>
          <a:solidFill>
            <a:srgbClr val="824f9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6696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ฟอร์มแฟกเตอร์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(Form Factor)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เป็นค่าสัมประสิทธิ์ของรูปคลื่นไฟฟ้า หาได้จากค่า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RMS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หารด้วยค่าเฉลี่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3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431640" cy="33336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684360" y="764640"/>
            <a:ext cx="6913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2e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ff99ff"/>
                </a:solidFill>
                <a:latin typeface="Arial"/>
                <a:cs typeface="LilyUPC"/>
              </a:rPr>
              <a:t>ฟอร์มแฟกเตอร์</a:t>
            </a:r>
            <a:endParaRPr b="0" lang="en-US" sz="4800" spc="-1" strike="noStrike">
              <a:solidFill>
                <a:srgbClr val="f4bc4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678040" y="3573360"/>
                <a:ext cx="2492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ค่า RM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ค่าเฉลี่ย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ไฟฟ้ากระแสสลับ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ฟอร์มแฟกเตอร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blinds dir="horz"/>
    <p:sndAc>
      <p:stSnd>
        <p:snd r:embed="rId3" name="BADURIM_5F2_5F86BPM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cc66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6764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0"/>
            <a:ext cx="7812000" cy="6858000"/>
          </a:xfrm>
          <a:prstGeom prst="rect">
            <a:avLst/>
          </a:prstGeom>
          <a:solidFill>
            <a:srgbClr val="824f9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684036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ff99ff"/>
                </a:solidFill>
                <a:latin typeface="Dotum"/>
                <a:cs typeface="KodchiangUPC"/>
              </a:rPr>
              <a:t>การเกิดรูปคลื่นไซน์</a:t>
            </a:r>
            <a:endParaRPr b="0" lang="en-US" sz="48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168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520"/>
                <a:tab algn="l" pos="6332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วิศวกรได้เลือกรูปคลื่นไซน์มาใช้เป็นมาตรฐานของสัญญาณไฟฟ้ากระแสสลับของแรงดันและกระแสที่ใช้งาน ด้วยเหตุผล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3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ประการดังนี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68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520"/>
                <a:tab algn="l" pos="6332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)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ูปคลื่นไซน์ทำให้เกิดการรบกวนในวงจรไฟฟ้าได้น้อยมาก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ค่าที่ได้มีความสม่ำเสมอทำให้เกิดประสิทธิภาพสู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68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520"/>
                <a:tab algn="l" pos="6332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2)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ารคำนวณเกี่ยวกับการใช้ไฟฟ้ากระแสสลับของรูปคลื่นไซน์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ทำได้ง่ายด้วยสมการ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X = k sin</a:t>
            </a:r>
            <a:r>
              <a:rPr b="1" lang="ru-RU" sz="3200" spc="-1" strike="noStrike">
                <a:solidFill>
                  <a:srgbClr val="ffffff"/>
                </a:solidFill>
                <a:latin typeface="Angsana New"/>
              </a:rPr>
              <a:t>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68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520"/>
                <a:tab algn="l" pos="63324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3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ูปคลื่นชนิดอื่น ๆ สามารถทำการวิเคราะห์ได้จากรูปคลื่นไซน์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ที่ประกอบอยู่ในรูปคลื่นเหล่านั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ไฟฟ้ากระแสสลับ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การเกิดรูปคลื่นไซน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horz"/>
    <p:sndAc>
      <p:stSnd>
        <p:snd r:embed="rId3" name="BADURIM_5F2_5F86BPM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cc66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6764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0"/>
            <a:ext cx="7812000" cy="6858000"/>
          </a:xfrm>
          <a:prstGeom prst="rect">
            <a:avLst/>
          </a:prstGeom>
          <a:solidFill>
            <a:srgbClr val="824f9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45082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ff99ff"/>
                </a:solidFill>
                <a:latin typeface="Angsana New"/>
                <a:cs typeface="KodchiangUPC"/>
              </a:rPr>
              <a:t>รูปทิศทางการเคลื่อนที่ของขดลวดตัวนำตัดผ่านสนามแม่เหล็ก</a:t>
            </a:r>
            <a:endParaRPr b="0" lang="en-US" sz="32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280" y="4076280"/>
            <a:ext cx="6767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48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  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ก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ที่มุม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90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°    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     (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ข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ที่มุมน้อยกว่า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90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°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      (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ค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ที่มุม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2/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ไฟฟ้ากระแสสลับ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การเกิดรูปคลื่นไซน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84360" y="1484280"/>
            <a:ext cx="6622920" cy="2449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187280" y="1484280"/>
            <a:ext cx="1800360" cy="82548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50000">
                <a:srgbClr val="6666ff"/>
              </a:gs>
              <a:gs pos="100000">
                <a:srgbClr val="2f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ทิศทางการเคลื่อนที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blinds dir="horz"/>
    <p:sndAc>
      <p:stSnd>
        <p:snd r:embed="rId4" name="BADURIM_5F2_5F86BPM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cc66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6764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0"/>
            <a:ext cx="7812000" cy="6858000"/>
          </a:xfrm>
          <a:prstGeom prst="rect">
            <a:avLst/>
          </a:prstGeom>
          <a:solidFill>
            <a:srgbClr val="824f9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600" spc="-1" strike="noStrike">
                <a:solidFill>
                  <a:srgbClr val="ff99ff"/>
                </a:solidFill>
                <a:latin typeface="Angsana New"/>
                <a:cs typeface="LilyUPC"/>
              </a:rPr>
              <a:t>การเกิดคลื่นไซน์ของไฟฟ้ากระแสสลับครบ </a:t>
            </a:r>
            <a:r>
              <a:rPr b="1" i="1" lang="en-US" sz="3600" spc="-1" strike="noStrike">
                <a:solidFill>
                  <a:srgbClr val="ff99ff"/>
                </a:solidFill>
                <a:latin typeface="Angsana New"/>
                <a:ea typeface="LilyUPC"/>
              </a:rPr>
              <a:t>1 </a:t>
            </a:r>
            <a:r>
              <a:rPr b="1" i="1" lang="hi-IN" sz="3600" spc="-1" strike="noStrike">
                <a:solidFill>
                  <a:srgbClr val="ff99ff"/>
                </a:solidFill>
                <a:latin typeface="Angsana New"/>
                <a:cs typeface="LilyUPC"/>
              </a:rPr>
              <a:t>รอบคลื่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ไฟฟ้ากระแสสลับ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การเกิดรูปคลื่นไซน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6624720" cy="33116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blinds dir="horz"/>
    <p:sndAc>
      <p:stSnd>
        <p:snd r:embed="rId4" name="BADURIM_5F2_5F86BPM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cc66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6764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7812000" cy="6858000"/>
          </a:xfrm>
          <a:prstGeom prst="rect">
            <a:avLst/>
          </a:prstGeom>
          <a:solidFill>
            <a:srgbClr val="824f9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716360" y="2707920"/>
            <a:ext cx="3097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การหมุนของขดลวดตัวนำตัดผ่านเส้นแรงแม่เหล็ก ทำให้การเกิดแรงดันมีขนาดเปลี่ยนแปล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394920" y="105228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2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ff99ff"/>
                </a:solidFill>
                <a:latin typeface="Arial"/>
                <a:cs typeface="LilyUPC"/>
              </a:rPr>
              <a:t>ค่าแรงดันและกระแสของคลื่นไซน์</a:t>
            </a:r>
            <a:endParaRPr b="0" lang="en-US" sz="48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ไฟฟ้ากระแสสลับ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ค่าแรงดันและกระแสของคลื่นไซน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242100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cc99ff"/>
                </a:solidFill>
                <a:latin typeface="Arial"/>
                <a:cs typeface="EucrosiaUPC"/>
              </a:rPr>
              <a:t>เส้นแรงแม่เหล็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2565360"/>
            <a:ext cx="2879640" cy="273672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4027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79640" y="4724280"/>
            <a:ext cx="217440" cy="21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80000" y="2924280"/>
            <a:ext cx="217440" cy="215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79640" y="2923920"/>
            <a:ext cx="1871640" cy="18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24000" y="3068280"/>
            <a:ext cx="1871640" cy="18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8000" y="2421000"/>
            <a:ext cx="7308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11280" y="2421000"/>
            <a:ext cx="7308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16360" y="2349360"/>
            <a:ext cx="73080" cy="324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2349360"/>
            <a:ext cx="72720" cy="324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95640" y="2421000"/>
            <a:ext cx="7308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332000" y="2421000"/>
            <a:ext cx="3168720" cy="31687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58920" y="3933720"/>
            <a:ext cx="33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9796400">
            <a:off x="3489120" y="256536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Wingdings 3"/>
                <a:ea typeface="Wingdings 3"/>
              </a:rPr>
              <a:t>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188000">
            <a:off x="2626920" y="508464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Wingdings 3"/>
                <a:ea typeface="Wingdings 3"/>
              </a:rPr>
              <a:t>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494172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9280" y="263700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64000" y="29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00360" y="2492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3236000">
            <a:off x="3564360" y="3355200"/>
            <a:ext cx="5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Wingdings 3"/>
                <a:ea typeface="Wingdings 3"/>
              </a:rPr>
              <a:t>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2907000">
            <a:off x="1195200" y="4932720"/>
            <a:ext cx="5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Wingdings 3"/>
                <a:ea typeface="Wingdings 3"/>
              </a:rPr>
              <a:t>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3236000">
            <a:off x="4285440" y="24184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Wingdings 3"/>
                <a:ea typeface="Wingdings 3"/>
              </a:rPr>
              <a:t>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29200" y="256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2e"/>
                </a:solidFill>
                <a:latin typeface="Angsana New"/>
              </a:rPr>
              <a:t>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65200" y="4869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2e"/>
                </a:solidFill>
                <a:latin typeface="Angsana New"/>
              </a:rPr>
              <a:t>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357336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2e"/>
                </a:solidFill>
                <a:latin typeface="Angsana New"/>
              </a:rPr>
              <a:t>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blinds dir="horz"/>
    <p:sndAc>
      <p:stSnd>
        <p:snd r:embed="rId3" name="BADURIM_5F2_5F86BPM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cc66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6764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0"/>
            <a:ext cx="7812000" cy="6858000"/>
          </a:xfrm>
          <a:prstGeom prst="rect">
            <a:avLst/>
          </a:prstGeom>
          <a:solidFill>
            <a:srgbClr val="824f9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431640" cy="333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771640" y="1484280"/>
                <a:ext cx="2006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700360" y="2637000"/>
                <a:ext cx="23097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00360" y="4365720"/>
                <a:ext cx="21589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ไฟฟ้ากระแสสลับ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ค่าแรงดันและกระแสของคลื่นไซน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blinds dir="horz"/>
    <p:sndAc>
      <p:stSnd>
        <p:snd r:embed="rId3" name="BADURIM_5F2_5F86BPM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cc66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0"/>
            <a:ext cx="8317080" cy="6858000"/>
          </a:xfrm>
          <a:prstGeom prst="rect">
            <a:avLst/>
          </a:prstGeom>
          <a:solidFill>
            <a:srgbClr val="824f9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5013000"/>
            <a:ext cx="7200720" cy="863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2e"/>
            </a:outerShdw>
          </a:effectLst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600" spc="-1" strike="noStrike">
                <a:solidFill>
                  <a:srgbClr val="ff99ff"/>
                </a:solidFill>
                <a:latin typeface="Angsana New"/>
                <a:cs typeface="LilyUPC"/>
              </a:rPr>
              <a:t>รูปการเกิดคลื่นไซน์จากการเคลื่อนตัวของขดลวดตัวน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431640" cy="333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ไฟฟ้ากระแสสลับ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ค่าแรงดันและกระแสของคลื่นไซน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1989000"/>
            <a:ext cx="2592360" cy="251964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8000" y="1989000"/>
            <a:ext cx="0" cy="251964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3284640"/>
            <a:ext cx="2592360" cy="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87280" y="2205000"/>
            <a:ext cx="1368720" cy="216072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2708280"/>
            <a:ext cx="2303640" cy="115236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258560" y="2205000"/>
            <a:ext cx="1297080" cy="216072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55640" y="2707920"/>
            <a:ext cx="2303640" cy="115236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66800" y="155736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90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87520" y="177336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60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62440" y="234936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30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47320" y="306864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° 36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EucrosiaUPC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50560" y="37162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33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EucrosiaUPC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47280" y="429264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3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EucrosiaUPC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10920" y="45813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27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EucrosiaUPC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1640" y="43657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24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EucrosiaUPC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108360" y="306864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18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EucrosiaUPC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2200" y="37893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21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EucrosiaUPC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920" y="23493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15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EucrosiaUPC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5640" y="1700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12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EucrosiaUPC"/>
              </a:rPr>
              <a:t>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11640" y="1700280"/>
            <a:ext cx="0" cy="3241440"/>
          </a:xfrm>
          <a:prstGeom prst="line">
            <a:avLst/>
          </a:prstGeom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40360" y="3429000"/>
            <a:ext cx="3744720" cy="0"/>
          </a:xfrm>
          <a:prstGeom prst="line">
            <a:avLst/>
          </a:prstGeom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40360" y="2924280"/>
            <a:ext cx="1800000" cy="0"/>
          </a:xfrm>
          <a:prstGeom prst="line">
            <a:avLst/>
          </a:prstGeom>
          <a:ln w="9360">
            <a:solidFill>
              <a:srgbClr val="cc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40360" y="2421000"/>
            <a:ext cx="1511280" cy="0"/>
          </a:xfrm>
          <a:prstGeom prst="line">
            <a:avLst/>
          </a:prstGeom>
          <a:ln w="9360">
            <a:solidFill>
              <a:srgbClr val="cc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40360" y="3933720"/>
            <a:ext cx="3456000" cy="0"/>
          </a:xfrm>
          <a:prstGeom prst="line">
            <a:avLst/>
          </a:prstGeom>
          <a:ln w="9360">
            <a:solidFill>
              <a:srgbClr val="cc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40360" y="4437000"/>
            <a:ext cx="3240000" cy="0"/>
          </a:xfrm>
          <a:prstGeom prst="line">
            <a:avLst/>
          </a:prstGeom>
          <a:ln w="9360">
            <a:solidFill>
              <a:srgbClr val="cc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00720" y="2421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21337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76720" y="2060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64000" y="21337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1640" y="2349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3429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16720" y="342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04000" y="3429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93080" y="342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80360" y="3429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4428360" y="1843920"/>
            <a:ext cx="1295280" cy="1728720"/>
          </a:xfrm>
          <a:custGeom>
            <a:avLst/>
            <a:gdLst>
              <a:gd name="textAreaLeft" fmla="*/ 0 w 1295280"/>
              <a:gd name="textAreaRight" fmla="*/ 908640 w 1295280"/>
              <a:gd name="textAreaTop" fmla="*/ 432000 h 1728720"/>
              <a:gd name="textAreaBottom" fmla="*/ 1296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6156360" y="3213000"/>
            <a:ext cx="1295280" cy="1727280"/>
          </a:xfrm>
          <a:custGeom>
            <a:avLst/>
            <a:gdLst>
              <a:gd name="textAreaLeft" fmla="*/ 0 w 1295280"/>
              <a:gd name="textAreaRight" fmla="*/ 908640 w 1295280"/>
              <a:gd name="textAreaTop" fmla="*/ 431640 h 1727280"/>
              <a:gd name="textAreaBottom" fmla="*/ 1295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98800" y="321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84680" y="270828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0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6680" y="220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0.8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06064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84680" y="184464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01880" y="37162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-0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02440" y="422100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-0.8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40360" y="4724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30600" y="450864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ngsana New"/>
              </a:rPr>
              <a:t>-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1480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ngsana New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19920" y="3357720"/>
            <a:ext cx="48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ngsana New"/>
              </a:rPr>
              <a:t>30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07200" y="3357720"/>
            <a:ext cx="48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ngsana New"/>
              </a:rPr>
              <a:t>60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94480" y="3357720"/>
            <a:ext cx="48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ngsana New"/>
              </a:rPr>
              <a:t>90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48360" y="335772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ngsana New"/>
              </a:rPr>
              <a:t>180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46360" y="335772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ngsana New"/>
              </a:rPr>
              <a:t>150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35080" y="3068640"/>
            <a:ext cx="60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ngsana New"/>
              </a:rPr>
              <a:t>180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12000" y="306864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ngsana New"/>
              </a:rPr>
              <a:t>210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00720" y="3068640"/>
            <a:ext cx="4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ngsana New"/>
              </a:rPr>
              <a:t>240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588000" y="3068640"/>
            <a:ext cx="4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ngsana New"/>
              </a:rPr>
              <a:t>270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77080" y="306864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ngsana New"/>
              </a:rPr>
              <a:t>300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64360" y="3068640"/>
            <a:ext cx="4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ngsana New"/>
              </a:rPr>
              <a:t>330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51640" y="3068640"/>
            <a:ext cx="4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ngsana New"/>
              </a:rPr>
              <a:t>360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12000" y="3284640"/>
            <a:ext cx="4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ngsana New"/>
              </a:rPr>
              <a:t>ө</a:t>
            </a:r>
            <a:r>
              <a:rPr b="1" lang="en-US" sz="1600" spc="-1" strike="noStrike">
                <a:solidFill>
                  <a:srgbClr val="ffffff"/>
                </a:solidFill>
                <a:latin typeface="Angsana New"/>
              </a:rPr>
              <a:t>(º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154160" y="5734080"/>
                <a:ext cx="2101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471920" y="5734080"/>
                <a:ext cx="2141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θ</m:t>
                    </m:r>
                  </m:oMath>
                </a14:m>
              </a:p>
            </p:txBody>
          </p:sp>
        </mc:Choice>
        <mc:Fallback/>
      </mc:AlternateContent>
    </p:spTree>
  </p:cSld>
  <p:transition spd="slow" advTm="30000">
    <p:blinds dir="horz"/>
    <p:sndAc>
      <p:stSnd>
        <p:snd r:embed="rId3" name="BADURIM_5F2_5F86BPM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cc66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6764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0" y="0"/>
            <a:ext cx="7812000" cy="6858000"/>
          </a:xfrm>
          <a:prstGeom prst="rect">
            <a:avLst/>
          </a:prstGeom>
          <a:solidFill>
            <a:srgbClr val="824f9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477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2e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ff99ff"/>
                </a:solidFill>
                <a:latin typeface="Angsana New"/>
                <a:cs typeface="LilyUPC"/>
              </a:rPr>
              <a:t>ค่ายอดและค่ายอดถึงยอดของคลื่นไซน์</a:t>
            </a:r>
            <a:r>
              <a:rPr b="0" lang="en-US" sz="4800" spc="-1" strike="noStrike">
                <a:solidFill>
                  <a:srgbClr val="ff99ff"/>
                </a:solidFill>
                <a:latin typeface="Angsana New"/>
                <a:ea typeface="LilyUPC"/>
              </a:rPr>
              <a:t>                                                                    </a:t>
            </a:r>
            <a:endParaRPr b="0" lang="en-US" sz="48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697248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6672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สัญญาณไฟกระแสสลับคลื่นไซน์เป็นสัญญาณคลื่นแบบสมมาตร มีขนาดคลื่นซีกบวกและซีกลบเหมือนกันและเท่ากั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2/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503280" cy="4046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663560" y="6093000"/>
            <a:ext cx="4364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ff99ff"/>
                </a:solidFill>
                <a:latin typeface="Angsana New"/>
                <a:cs typeface="LilyUPC"/>
              </a:rPr>
              <a:t>รูปค่าต่าง ๆ ของคลื่นไซน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ไฟฟ้ากระแสสลับ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ค่ายอดและค่ายอดถึงยอดของคลื่นไซน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124000" y="3068280"/>
            <a:ext cx="0" cy="302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24000" y="4653000"/>
            <a:ext cx="36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57080" y="4365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2214720" y="3267000"/>
            <a:ext cx="1258560" cy="1440000"/>
          </a:xfrm>
          <a:custGeom>
            <a:avLst/>
            <a:gdLst>
              <a:gd name="textAreaLeft" fmla="*/ 0 w 1258560"/>
              <a:gd name="textAreaRight" fmla="*/ 882720 w 125856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5400000">
            <a:off x="3635640" y="4580640"/>
            <a:ext cx="1224000" cy="1368360"/>
          </a:xfrm>
          <a:custGeom>
            <a:avLst/>
            <a:gdLst>
              <a:gd name="textAreaLeft" fmla="*/ 0 w 1224000"/>
              <a:gd name="textAreaRight" fmla="*/ 858600 w 1224000"/>
              <a:gd name="textAreaTop" fmla="*/ 334800 h 1368360"/>
              <a:gd name="textAreaBottom" fmla="*/ 10335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287"/>
                  <a:pt x="21600" y="10573"/>
                </a:cubicBezTo>
                <a:lnTo>
                  <a:pt x="21600" y="11027"/>
                </a:lnTo>
                <a:cubicBezTo>
                  <a:pt x="21600" y="16314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24000" y="400536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24000" y="386064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0920" y="3357720"/>
            <a:ext cx="475308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0920" y="5877000"/>
            <a:ext cx="475308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211640" y="4005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716360" y="3860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508720" y="33577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47120" y="31417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+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30640" y="5661000"/>
            <a:ext cx="7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-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6804000" y="3357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04000" y="4797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16360" y="4581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64000" y="4581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11640" y="4581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4581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07440" y="44337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ngsana New"/>
              </a:rPr>
              <a:t>ө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º</a:t>
            </a:r>
            <a:r>
              <a:rPr b="1" i="1" lang="en-US" sz="24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6588000" y="4365720"/>
                <a:ext cx="4320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284720" y="4149720"/>
                <a:ext cx="431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859280" y="3933720"/>
                <a:ext cx="525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651640" y="3860640"/>
                <a:ext cx="3711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2530440" y="465300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90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32000" y="4653000"/>
            <a:ext cx="63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180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51280" y="4653000"/>
            <a:ext cx="63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270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48360" y="4653000"/>
            <a:ext cx="63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360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41120" y="27813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ffffff"/>
                </a:solidFill>
                <a:latin typeface="Angsana New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blinds dir="horz"/>
    <p:sndAc>
      <p:stSnd>
        <p:snd r:embed="rId3" name="BADURIM_5F2_5F86BPM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cc66ff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6764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0" y="0"/>
            <a:ext cx="7812000" cy="6858000"/>
          </a:xfrm>
          <a:prstGeom prst="rect">
            <a:avLst/>
          </a:prstGeom>
          <a:solidFill>
            <a:srgbClr val="824f9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698508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ค่ายอดของสัญญาณคลื่นไซน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คือขนาดสูงสุดของแรงดันหรือกระแสไฟสลับ วัดจากระดับอ้างอิงถึงระดับยอดสูงสุดของรูปคลื่นทางด้านบวกหรือด้านลบ เพียงด้านใดด้านหนึ่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ค่ายอดถึงยอดของสัญญาณคลื่นไซน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คือขนาดสูงสุดของแรงดันหรือกระแสไฟสลับ วัดจากระดับต่ำสุดของสัญญาณไปถึงระดับสูงสุดของสัญญา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5e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431640" cy="3333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5e2f75"/>
              </a:gs>
              <a:gs pos="50000">
                <a:srgbClr val="cc66ff"/>
              </a:gs>
              <a:gs pos="100000">
                <a:srgbClr val="5e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ไฟฟ้ากระแสสลับ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ค่ายอดและค่ายอดถึงยอดของคลื่นไซน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blinds dir="horz"/>
    <p:sndAc>
      <p:stSnd>
        <p:snd r:embed="rId3" name="BADURIM_5F2_5F86BPM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3:19:17Z</dcterms:created>
  <dc:creator>ADMIN</dc:creator>
  <dc:description/>
  <dc:language>en-US</dc:language>
  <cp:lastModifiedBy>พี่อุอุ๊</cp:lastModifiedBy>
  <dcterms:modified xsi:type="dcterms:W3CDTF">2005-11-14T02:37:20Z</dcterms:modified>
  <cp:revision>56</cp:revision>
  <dc:subject/>
  <dc:title>บทที่ 2</dc:title>
</cp:coreProperties>
</file>